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F4A6-74B1-4E30-A244-B5FEFABEF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6BA8-5A6A-415C-AB53-3E677FAA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756D-47D2-4E80-8260-8D8FDEA82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5410-8ED6-4149-B032-E7F9D50A1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FEF3-07A7-4694-8506-03BFE9AEF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F574-2D3A-4637-B23E-14B0BB44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E8AC-B6CD-4381-9F6D-9808E2F0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DDED-1AB2-4A74-B085-D31D5E4D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CCB2-9A75-4354-8747-70C701C5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0A84-5177-4C33-8E63-84F3D204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1E7F-A6D1-4A82-A3A6-D2DA7E89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FC8B-7CD5-4D85-9E7B-776B3541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2003-0ABC-4EC9-A2AE-A5B3F67E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23AE-9BD7-458D-A0CE-790BCD2A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1E76-B135-422A-A757-394C5238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9510-9041-4DFE-824B-07079AE7B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3E4D-5F9C-4D90-BF8F-590D05B77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CCD8-D73D-49CB-A12A-62698205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0F2C-885F-43EC-A8D8-8EC0FFAB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138C-F469-4FFD-8D9B-4F396C50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5BE6-09EE-42F5-AF0F-A5F2A5C6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652D-F9B8-45B7-8200-8A1BE721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EE34-1F65-49F0-A7DA-8E52E499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F82C-108F-4026-9653-3759601F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C669-5101-48AA-B56E-AC57EAA37BE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0E2C-9B1C-4994-B9E9-A58970A7855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900" spc="-1" strike="noStrike">
                <a:solidFill>
                  <a:srgbClr val="ffffff"/>
                </a:solidFill>
                <a:latin typeface="Tahoma"/>
                <a:cs typeface="????Boutros Rokaa"/>
              </a:rPr>
              <a:t>ما أجمل أن نَجتمع معاً</a:t>
            </a:r>
            <a:endParaRPr b="0" lang="en-US" sz="1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03280" y="0"/>
            <a:ext cx="7740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ا أَجْمَلَ أَنْ نَجْتَمِعَ مَعاً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بالْحُبِّ يَقولُ الرَّبُّ لَنَا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ا اجْتَمَعَ باسْمِيَ اثنَانِ مَعاً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إِلاّ وَهُنَاكَ أَكُونُ أَنَ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5680" y="0"/>
            <a:ext cx="75834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َا رَبُّ تَعَالَ الآنَ هُنَا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نَدْعُوكَ تَعَالَ وَكُنْ مَعَنَا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ِنْ رُوحِكَ إِمْلأْنَا فَرَحاً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َسَلاماً لاَ يُعْطِيهِ غِنَىً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41320" y="0"/>
            <a:ext cx="73677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إِذَا كُنْتَ لَنَا عَوْناً وَسَنَد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فِي كُلِّ طَرِيقٍ نَسْلُكُهُ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َإِلَهاً لَيْسَ سِواهُ نَجِد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نُعْطِيهِ الْقَلْبَ نَمْلِكُهُ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25680" y="0"/>
            <a:ext cx="75834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َا رَبُّ تَعَالَ الآنَ هُنَا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نَدْعُوكَ تَعَالَ وَكُنْ مَعَنَا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ِنْ رُوحِكَ إِمْلأْنَا فَرَحاً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َسَلاماً لاَ يُعْطِيهِ غِنَىً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06:33:39Z</dcterms:created>
  <dc:creator>Charbel Azar</dc:creator>
  <dc:description/>
  <dc:language>en-US</dc:language>
  <cp:lastModifiedBy>-</cp:lastModifiedBy>
  <dcterms:modified xsi:type="dcterms:W3CDTF">2002-12-29T16:03:14Z</dcterms:modified>
  <cp:revision>17</cp:revision>
  <dc:subject/>
  <dc:title>Slide 1</dc:title>
</cp:coreProperties>
</file>